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A5E-62A7-4EFC-9222-EFD825CB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1BF-A5ED-4797-B6A3-CBA123FF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012-0B53-4E7D-B11A-CC2C29A2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538-E660-444C-8D05-3D190ACC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AAA-69E9-4554-A0A3-5C3FB950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4005-7B8B-4A98-AD67-A85C1464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874-0BAF-4E4D-BC7B-920F0482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038-A569-4422-BF18-CC007DAD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061-45F9-48B9-8A3E-B810159B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BF2-E102-4E11-8548-64D3B017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A3D-0FAC-4116-AE47-2CE2A4AC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F35-A3FD-4E40-B670-275EC41F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E7D6-33DB-411D-8044-9819A2FC5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ЕНИЕ КОНТРОЛЬНОЙ РАБОТЫ (КР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АЯ ПАМЯ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-й лист «ПЛА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сновная ч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.1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источников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й лист 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-лист «Основная ча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4T15:53:14Z</dcterms:created>
  <dc:creator>Николай</dc:creator>
  <dc:description/>
  <dc:language>en-US</dc:language>
  <cp:lastModifiedBy>USER</cp:lastModifiedBy>
  <dcterms:modified xsi:type="dcterms:W3CDTF">2021-10-05T05:50:48Z</dcterms:modified>
  <cp:revision>5</cp:revision>
  <dc:subject/>
  <dc:title>ВЫПОЛНЕНИЕ КОНТРОЛЬНОЙ РАБОТЫ (КР)</dc:title>
</cp:coreProperties>
</file>